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761760" y="6095880"/>
            <a:ext cx="8381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0" y="152280"/>
            <a:ext cx="60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614880" y="6275520"/>
            <a:ext cx="24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trepreneurial Finan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5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elman and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6705720" y="61038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2010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415296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-</a:t>
            </a:r>
            <a:fld id="{AACB37BB-3BB9-4524-8C5D-DFD7617C4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pter 11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fe insu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thod of transferring risk from the insured to the insurance company. Two basic typ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umes that you pay the premium for pure life insu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man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ole-life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cates part of the premium to building equity or cash value that can be used upon retirement or borrowed against in case of an emergenc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and whole-life insurance vari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versal Life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olicy where purchasers set the premium and the death benefit themselv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 life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s the individual to buy insurance and at the same time make choices among investment op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lth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urchased to alleviate the cost of an illness or other health probl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lth Maintenance Organizations (HM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 their doctors, specialists and hospi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ferred Provider Organizations (PP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oice of doctors, hospitals, laboratories and medical facilities within PPO net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ca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federal health insu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itizens 65 or 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bility for at least 24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edicare 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re has four distinct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A covers most expenses and the hospital if medically necess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B helps cover doctor services, outpatient care and other items not covered in Part A. Requires monthly prem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C consists of Medicare Supplemental insurance plans or Medicare Advantage Plans that provide coverage not covered by Part A &amp;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D is federal government’s prescription drug progr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insurance 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ability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urchased to replace lost income when an employee is unable to do the job due to a physical or mental handic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ng-term c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for all of the assistance one needs if one has a chronic illness or disability for an extended period of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used to transfer the risk of property damage and personal injury that might result from your business operation or individual 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nancial Planning Goal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financial success in life, we mu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goals that are realistic and obtai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the acquisition stage of capital accum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rve capital by investing in vehicles that provide us a return greater than the infl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individual tolerance for ri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 capital through retirement income or estat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vehic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specific financial instruments that we use to generate growth and inc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 e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ificates of depo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ual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us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equival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iquid assets that are invested in savings accounts or brokerage money market accou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market consist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s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er’s accep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ificates of depo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urchase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tificates of depos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promissory notes whereby a bank promises to pay the purchaser the principal amount plus interest after a stipulated period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tractual agreements that are made between a borrower and a lender of financial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 S. Treasury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-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deral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cipal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revenu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obligation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bo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overall nature of risk as it pertains to both individuals and busi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 between speculative and pure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programs employed by individuals and businesses in managing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role that insurance plays in the transfer of r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role of capital accumulation in achieving financial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. S. Treasury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treasury bills) are risk-free investments that mature in less than one year, typically in three or six mon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not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onds that mature in 10 years or less, typically 10 years, 5 years and 2 y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ure in periods that are greater than 10 years and range up to 30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icipal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ssued by a government agency other than the federal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revenue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issued to build specific projects for the municipality that will use the income from the project to pay the bondhol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 obligation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used to build projects that do not normally generate revenue such as public schools and ro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ssued by a public corporation that wants to borrow money to invest in assets that will help it earn reven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ed deb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fact that the corporation pledges specific assets to guarantee the b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bond is not backed by secured debt, it is referred to 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ben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nture bondholders have a claim on the remaining assets of a comp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termin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e value or principal valu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the bo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mination of $1,000, paid to the bondholder at maturity (the due date of the bon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pon 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oted rate or stated rat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rate of interest that the issuer agrees to pay to the lender on an annual ba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market interest 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prevailing rate in the market on the date we decide to sell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mium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 that are sold at a value above par ($1,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oun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 that are sold at a value below par ($1,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nk bond (high-income yielding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rporate bond having a rating of  ‘B’ or less (this bond by definition is a high-risk inves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 val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urrent interest rates, find the present value of the bond’s interest payments paid over the remaining life of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urrent interest rates, find the present value of the $1,000 maturity value (par) of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the two together to get the price of the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ssued by public or private corporations to raise financial capi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ers of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s for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or may not pay a divi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termin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rbitrary dollar amount that is used for accounting purposes to determine the number of shares of stock that have been sold by the corpo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ok 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stock is the total stockholder’s equity that is carried on the corporate balance sheet. Contains three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k at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paid-in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ed ear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762120" y="1828800"/>
            <a:ext cx="8076960" cy="1170000"/>
            <a:chOff x="762120" y="1828800"/>
            <a:chExt cx="8076960" cy="1170000"/>
          </a:xfrm>
        </p:grpSpPr>
        <mc:AlternateContent>
          <mc:Choice xmlns:a14="http://schemas.microsoft.com/office/drawing/2010/main" Requires="a14">
            <p:sp>
              <p:nvSpPr>
                <p:cNvPr id="101" name="Object 5"/>
                <p:cNvSpPr txBox="1"/>
                <p:nvPr/>
              </p:nvSpPr>
              <p:spPr>
                <a:xfrm>
                  <a:off x="762120" y="2425680"/>
                  <a:ext cx="80769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ok value per share of common stock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Total  common  stockholder's  equity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Number  of  shares  of  common  stock  outstandin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2" name="TextBox 5"/>
            <p:cNvSpPr/>
            <p:nvPr/>
          </p:nvSpPr>
          <p:spPr>
            <a:xfrm>
              <a:off x="1154160" y="1828800"/>
              <a:ext cx="327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ok value per sh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TextBox 8"/>
          <p:cNvSpPr/>
          <p:nvPr/>
        </p:nvSpPr>
        <p:spPr>
          <a:xfrm>
            <a:off x="1143000" y="35053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ice at which the owners of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s are buying and selling the stock at the time tha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is actually tra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95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ffecting market value of a share of sto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y and demand for sh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 earnings and anticipation of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value of stock and number of share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economic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and determine which investment vehicles to select in order to accumulate and preserve capital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importance of retirement plan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 between the various retirement programs and strategies available to the business owner and the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importance that estate planning plays for the individual and business owner in the transfer of weal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95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ferred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ssued by a corporation to raise financial capital but it occupies an intermediate position between common stock and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si-owners of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voting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d a specific return on investment if corporation pays a divi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preferred sto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mulative preferred st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he following important feat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corporation decides to pay a dividend, the preferred stockholder will receive back dividends, or dividends in arre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ible preferred st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eferred stock that may be exchanged for shares of common stoc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able preferred st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eferred stock that can be called back by the company at some specified pr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ayment made by the corporation to each shareholder of a class of st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nds are paid on a per-share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erred stock dividends are paid first, the remainder is paid to common sharehol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601560" indent="-231480"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has 1 million shares of common and 10,000 shares of $100, 7% preferred stock, and declares a $1 million dollar divid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838080" y="2438280"/>
            <a:ext cx="8077320" cy="3289320"/>
            <a:chOff x="838080" y="2438280"/>
            <a:chExt cx="8077320" cy="3289320"/>
          </a:xfrm>
        </p:grpSpPr>
        <mc:AlternateContent>
          <mc:Choice xmlns:a14="http://schemas.microsoft.com/office/drawing/2010/main" Requires="a14">
            <p:sp>
              <p:nvSpPr>
                <p:cNvPr id="115" name="Object 1028"/>
                <p:cNvSpPr txBox="1"/>
                <p:nvPr/>
              </p:nvSpPr>
              <p:spPr>
                <a:xfrm>
                  <a:off x="838080" y="2971440"/>
                  <a:ext cx="807732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otal dividend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Total preferred dividend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Total common stock dividend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otal common stock dividend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Total dividend - Total preferred dividend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Total common stock dividend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$1,000,000 -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$7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,000 preferred share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otal common stock dividend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$1,000,000-$70,0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otal common stock dividend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$930,00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mmon stock dividend per share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Total common stock dividen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Total number of shares of common stock outstanding</m:t>
                              </m:r>
                            </m:den>
                          </m:f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mmon stock dividend per share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3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hares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$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3</m:t>
                          </m:r>
                          <m:r>
                            <m:rPr>
                              <m:lit/>
                              <m:nor/>
                            </m:rPr>
                            <m:t xml:space="preserve"> per share of common stock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TextBox 4"/>
            <p:cNvSpPr/>
            <p:nvPr/>
          </p:nvSpPr>
          <p:spPr>
            <a:xfrm>
              <a:off x="1066680" y="24382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vidends are calculated as follow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tual f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mpanies that are involved in collecting the funds of investors and using these funds to purchase large blocks of stocks, bonds, or other investment vehic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und is established with a specific goal and risk obj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wth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est primarily in common stock of publicly held corporations and have capital appreciation as their objec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ome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alize in corporate and government bo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wth and income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ed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vest in both stocks and bon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ual fund fami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vestment group that may have mutual fund portfolios in all of the preceding catego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-load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 not charge commissions on the amount invest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ge a commission on the initial investment, but have no sales charges when you sell the sha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and international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funds that invest in stocks and bonds of companies primarily outside of the United Sta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ey market f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marily invest in short-term, highly liquid investments such as CDs, short-term government treasuries, commercial paper, repurchase agreements, and banker’s acceptan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mutual fu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investment in land and building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wner-occupied residential 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y kind of building in which people l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limited by law to your primary residence and one additional vacation h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wner–occupied residential 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operty that can be leased by the owner to the tenant for the purpose of generating inc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y may be in the form of houses, apartments, motels, or hot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e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rcial real e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oth land and improved property that is used by the owner to generate inco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are commercial office buildings, shopping centers, factories, and wareho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s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uncertainty of futur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at in which there is a possible gain or lo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s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re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only a chance of loss or experiencing a theft or f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r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e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estate investment trusts (REIT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the investor with the opportunity to participate in the commercial and nonresidential real estate marke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IT is a pooling of individual investor funds, much like a mutual fu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ious me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l into the area of commodity trad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are primarily gold, silver, and platin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to be hedges against inf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i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tems that become valuable or appreciate with time because of their scarc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include coins, paintings, sculptures, antiques, stamps, and even baseball cards and comic book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vest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rt-Term Investment Strate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ing stock on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ing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 t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Investment Strate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 and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llar cost aver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sion plan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sts of making plans to guarantee a system of conserving future income for the time when you choose to retire or are forced into retirement due to circumstances beyond your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main sources of retiremen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Sponsored Retirement P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 sav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retirement pl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ibution-oriented pl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benefits to the retiree based on the account balance that has been accumulated during the working life of the pension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-oriented pl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a defined benefit to the retiree at retirement, which is generally a percentage of the compensation paid to the employee during the last several years of employment and the total term of employment. An example would be military retirement p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bined pl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retirement plans designed by individuals or employ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erment of salaries into a retiremen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contributions into a retiremen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 retirement accounts, or IR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re plans that allow us to contribute current annual income into retirement accou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uctible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deductible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h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914400"/>
            <a:ext cx="7591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ductible I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those in which you can contribute pretax dollars up to an amount specified by current la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762120" y="4800600"/>
            <a:ext cx="11199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deductible I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 you to contribute th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s as do deductible IRAs, but the contribution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-tax doll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both of the above, returns accumulate tax-f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withdr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0"/>
          <p:cNvGraphicFramePr/>
          <p:nvPr/>
        </p:nvGraphicFramePr>
        <p:xfrm>
          <a:off x="2666880" y="2057400"/>
          <a:ext cx="377208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37720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th I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allow you to contribute up to $5,000 of after-tax dollars by 2008 as shown in Table 11-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funds are held in the account for at least five years, there are no taxes d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original contributions can be withdrawn tax-free at any ti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oll a current IRA into a Roth IRA provided you pay tax on current 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ithdraw $10,000 tax-free and penalty-free to purchase first home if IRA is more than 5 years o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h IR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have age limit with regard to mandatory withdraw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tional IRAs have an age 70 1/2 mandatory withdrawal age lim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gains are tax-free fore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h IRAs can be passed on to heirs tax-f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sk Criteria for an Insurable Los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losses must be reasonably predic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ss must be acciden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ss should be beyond the control of the insu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ss should not be catastrophic to the insurance compa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dell Education Savings Account (Educational IRA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for an non-deductible contribution of up to $2,000 for any child under the age of 1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 accumulates tax-free and remains tax-free as long as it is used for the child’s higher educational expen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s must be used before the student is 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count can be transferred between family member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01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ion 529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 both prepaid tuition and saving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s in both prepaid and savings plans grow tax-f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 limit depends on plan and vary from state to state ($100,000 to $305,00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drawals are tax-free if used for qualified expens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ition, fees, and room and board at qualified higher educational instituti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s can be assigned to any family members including cous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alty to non-qualified withdrawals is that withdrawal is taxed as ordinary income and there is a 10 percent penal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ied Employee Pension (SEP)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ension plans that are funded by emplo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-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mployees must a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for self-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s can be up to the lesser of $46,000 or 25 percent of the participants’ compens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59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SIMPLE (Savings Incentive Match Plan for Employees) is a pension plan established by an employer who has fewer than 100 employees. Current legislation defines contribution limits a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 employee contribution dollar for dollar to 3 percent of sal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0,500 for 2007 &amp;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ge 50+ $12,5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x-sheltered annuities (TSAs 403b plan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lans that allow employees of not-for-profit organizations (churches, public schools, charitable organizations, etc.) to establish a retirement fund that is purchased and approved by the employ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ogh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r self-employed individuals in sole proprietorships, partnerships, and LL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e up to the lesser of 100% of earned income or $46,000 for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deductible contribution is up to 25% of compens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both contribution and benefit amounts derived from the accou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5,000 limit on annual retirement benefit for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t-sharing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established by employers who have determined that a portion of each dollar in profit will be allocated to the employees of the 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contributions to these plans vary drastically because profits fluctuate due to economic, industry, and specific company heal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stand alone but are incorporated into other types of retirement pl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1k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irement plans established to accept employee contribu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salary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may match a portion of employee contribution on some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pretax contributions up to $15,000 per year. $20,000 for individuals 50 and abo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favor highly compensated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401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odification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1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to firms with fewer than 100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contribution limited to $15,000 per year, $20,000 if age 50 or ol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can contribute up to 3% of worker’s 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has to be the only plan the business o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s are spared from discrimin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95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h 401k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established by an employ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s tax-f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after-tax mon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contribution is $15,000 in 2006 and $20,000 if age 50 or ol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unds passed on the beneficiaries tax-fre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dentification of Risk Expos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service due to death or disability of the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rruption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purchase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fined contribution plans that are established by the employer to contribute a fixed percentage of payroll into a retirement fund for the employ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contribution is 25% of pay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does not con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must contribute even if company makes no 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bonus pl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imilar to profit-sharing plans, except that the employer contributes shares of stock, rather than money, into the retirement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r gets a deduction for the value of the st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ion is pre-tax dol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sion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tirement Strategi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a goal, or minimum, income level that you desire when you ret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wait until you believe you can afford to start a retirement ac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for capital preservation and continued grow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 in instruments that provide you with a degree of risk that is comfortable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invest the maximum amount, but never less than the amount that the employer uses to calculate profit-sharing or matching contribu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opening a Roth IRA even if you have an employer-sponsored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tirement Strategi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state Planning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te plan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ethod of planning for use, conservation, and transfer of wealth as efficiently as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written documents that provide direction to others as to how you want your wishes carried out after de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b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legal court process that addresses and focuses in on the will and the probate e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51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ing items from prob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Ownership with right of survival (temporary removal) NOTE: The author recommend that children should not normally be part of Joint ownership with right of survi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sts (permanent rem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fts – reducing the value of the e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egal arrangements that actually divide legal and beneficial interests among two or more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trust is set up during the life of the trustor, it is referred to 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ving t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trust is established at death, it is referred to 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amentary t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ocable tr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one in which the trustor has the right to cancel the trust during his or her life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evocable tru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one that is unalterable during a person’s life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state Planning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agement of Ris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management involves performing the management planning function in a manner that will reduce uncertainty. Method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re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as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 programs that reduce risk. Exampl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kle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ing up sm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sting in government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voi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voiding any hazard which exposes the business to risk. An exampl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h-only sales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agement of Risk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transf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ransferring risk to another party, usually a factor or insurance compa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you believe that the loss you might incur is less than the cost of risk avoidance or risk transf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agement of Risk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0:36:06Z</dcterms:created>
  <dc:creator>Philip J. Adelman</dc:creator>
  <dc:description/>
  <dc:language>en-US</dc:language>
  <cp:lastModifiedBy>David McNaughton</cp:lastModifiedBy>
  <dcterms:modified xsi:type="dcterms:W3CDTF">2009-12-18T17:09:47Z</dcterms:modified>
  <cp:revision>98</cp:revision>
  <dc:subject/>
  <dc:title>No Slide Title</dc:title>
</cp:coreProperties>
</file>